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7D8FA-E724-4A02-8E5D-90ADF67118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45D02-9E8E-4B53-AA9C-1603E229B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democracy may have its faults, most people in democracies still believe it is the best form of government. (p.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064DB-1899-40D7-B367-F8EC573297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erson, one vote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quate and equal opportunities to express their preferences through the decision-making proces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 press and free speech. No group monopolizes the marketpl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addresses issues important to the public as a whole, not a select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jority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desire is to be respected, but those who do not belong to the majority are guaranteed r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00B22-9F07-4D7E-8F87-6EA21FABBB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16C75-27EA-40E2-AF40-1A472B37FB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role does the media pl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3CAB8-E191-401B-93A0-40CC69DB9E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holds power and who influences the policies adopted by the governme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government do what we want it to do? Government vs. individual responsibil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01EBF-39C4-43B1-8B80-4543B4411A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focuses on w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DBF97-CC5F-4C94-9182-5BCA87A845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focuses on w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6B995-B6E0-4018-BDF5-81B40300A0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cy is not limited to laws passed by Congress. It may include executive decisions, Supreme Court rulings, budgetary choices, or bureaucratic regulation – see Table 1.1 on p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DBC7D-CA15-4FBA-AED4-214FA4AD36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97D-3831-47A4-AD65-AA76AF55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CB0-D73F-4956-B5CA-3C8A02CE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F13-AD0E-424C-B580-7C76A907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9D3-BC22-48A5-BB7A-FCCE3928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45FC-F463-4ECE-9D06-07F5F9AD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C05E-48FE-4A02-9EE4-D033CC70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BEA8-F327-4D2A-9562-DC56877B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3DCC-0FAA-4257-9CD9-4A4B7373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F547-C667-4FD0-B7D2-AB31EA77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2DA3-C328-407D-B53D-D33120F1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4C7F-13B2-42E9-9CD7-518511D4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418-25BD-4146-ADDB-2C35B37E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3B12-7079-49F2-B07C-2817489D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2032-B15F-4CAF-9816-6080B519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4693-1AEB-4DFA-B2BB-FDFD93F7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5347-EEE9-4778-89A7-16B77D2F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7325-9747-4E40-8246-ADC806A1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279-9272-4E6C-9B3F-70FA128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298-AAC9-49D7-BA53-43569D44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4BA-280A-4DFE-A23A-A35DC3CE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970-6780-4B2C-B707-F0D57567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E62-39C9-4DD9-B8B9-42E5B61B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AFC-E58C-4555-97FD-32D60CCB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9C3-1DA4-4228-8094-232385D1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DE15B-1F1F-4D46-A88E-D5BBD5BDFCA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2A225-989F-4F06-977A-98BC4899BC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C7623-C72C-4FAB-A8D1-E15B3811C5E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9592C-9503-4E90-A37E-AD4C6AD11F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ing Government in Ameri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Screen shot 2011-08-23 at 4.53.02 PM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38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selecting policymakers and of organizing government so that policy represents and responds to the public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preferenc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181480" y="2023920"/>
            <a:ext cx="31734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cratic The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quality in Voti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ffective Participa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lightened Underst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tizen Control of the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s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jority Rule vs. Minority Righ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Theories of American Democrac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luralist Theo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tics is a competition among group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one group domin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lite Theory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upper-class elite control govern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Hyperpluralis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strong groups competing hinder government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 ability to perfor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llenges to 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Technical Experti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rd for citizens to make well-informed decis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mited Participation in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ericans know little about leaders and polic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calating Campaign Cos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nection between money and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d influence of PA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verse Political Inter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gridlock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erican Political Cultur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itical Cultur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n overall set of values shared by most members of socie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ments of American Political Cultur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ber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galitarianis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ividu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issez-Fair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is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cope of 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undamental Ques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s the government responsible for ensuring important societal goals (such as adequate healthcare or fair business practices) are achieved?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 Mat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703440" y="1598760"/>
            <a:ext cx="1944360" cy="243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284640" y="2014560"/>
            <a:ext cx="260820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3754440" y="4029120"/>
            <a:ext cx="1689120" cy="243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tretch/>
        </p:blipFill>
        <p:spPr>
          <a:xfrm>
            <a:off x="6257880" y="1878120"/>
            <a:ext cx="24289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oung People are Politically Apathetic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think they can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 make a differ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think the political system is corrup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don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 ca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benefits of being informed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stering Civic Virt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ed Vo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ive Political Participa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stitutions and processes through which public policies are made for a societ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ow should we govern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should government do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834160" y="3478320"/>
            <a:ext cx="2963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sic Functions of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tain National Defe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 Public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rve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alize the You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lect Tax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6122880" y="1600200"/>
            <a:ext cx="2602080" cy="1893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619520" y="3902040"/>
            <a:ext cx="40672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we select our governmental leaders and what policies these leaders purs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ja-JP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Who gets what, when, and how.</a:t>
            </a:r>
            <a:r>
              <a:rPr b="0" i="1" lang="ja-JP" sz="32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Lasswel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: Voters, Candidates, Groups, Par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: Issues, Services,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: Voting, Lobbying, Pro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itical Particip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ll the activities used by citizens to influence the selection of political leaders and the policies they purs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voting, protesting, civil disobedienc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ericans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articipation very low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cym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policy comes into being and evolves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sential Compon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kage Institut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making Institu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951440" y="3265560"/>
            <a:ext cx="3735360" cy="2431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4120200" y="32446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23:58:39Z</dcterms:created>
  <dc:creator>Katie Madison</dc:creator>
  <dc:description/>
  <dc:language>en-US</dc:language>
  <cp:lastModifiedBy>madisonk Madison</cp:lastModifiedBy>
  <dcterms:modified xsi:type="dcterms:W3CDTF">2013-08-24T16:20:19Z</dcterms:modified>
  <cp:revision>28</cp:revision>
  <dc:subject/>
  <dc:title>Introducing Government in America</dc:title>
</cp:coreProperties>
</file>